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8A9-CEC1-4384-8CD1-509C55FA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2BB-B48E-4BE5-810D-E2E1C015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36F-9EC3-4884-BFDE-18C2354B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ADA-67D7-4CC0-A82A-DCD9EDDA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AAD-DE64-4509-B304-0C598EA5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2B7-AAA8-4452-9F46-CBCCF529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5AC-B1AE-4474-ADFF-A1BF9C05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217-67F2-4456-8DD7-157E74FA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724-3783-439D-BD72-E471A64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CEF-15F4-43A8-901F-83EC2E04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5C7-B9D3-444A-B9FD-1C498F47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A88-3A47-4478-86A5-62E458EB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5DB5-99FF-4078-A696-DDB724285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3:53:36Z</dcterms:created>
  <dc:creator>HP Authorized Customer</dc:creator>
  <dc:description/>
  <dc:language>en-US</dc:language>
  <cp:lastModifiedBy>HP Authorized Customer</cp:lastModifiedBy>
  <dcterms:modified xsi:type="dcterms:W3CDTF">2008-01-25T03:53:36Z</dcterms:modified>
  <cp:revision>1</cp:revision>
  <dc:subject/>
  <dc:title>Slide 1</dc:title>
</cp:coreProperties>
</file>